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285D-8A6E-4698-86DC-0D0A9E0C2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365A-F452-40A5-B430-6E192F8CB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F1C-4F86-415B-9AE8-65FD3DF9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F9E6-2A9B-4880-99DA-607885A29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4F7C-4E07-47B2-951F-CA4CA46F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77E6-D38F-4BD1-BBA3-E35BC95E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4562-FC26-4EF8-AEC5-481CDAAA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DA01-3578-4E41-B839-B440B208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26CE-997E-4715-B8AD-9B3B87BF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E17-1491-42FB-A9C2-50049810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BCF-575A-4012-AB3D-6DA49B23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FCA-AF27-438C-92E1-A1B755E0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01E-5B5D-427A-BBF3-FFAB8968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6B2-1EEF-40D2-BAE5-7AF3016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15F-3D2B-4A38-AE98-1CF1BBB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689-20DA-48ED-A56B-39B88C5E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4CF-EE82-49F2-AC95-CC163559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537-A4B7-4AAE-9CAD-2F21ECE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9BA-EC72-4807-B33A-DE19D3A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A5F-118E-4AB9-9A12-0B5D631B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938-AA9C-4BA6-83EB-7694751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2554-BC17-4F25-9892-BAE07356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lu0dzK4db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53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MVanElli</cp:lastModifiedBy>
  <dcterms:modified xsi:type="dcterms:W3CDTF">2010-10-21T13:57:49Z</dcterms:modified>
  <cp:revision>26</cp:revision>
  <dc:subject/>
  <dc:title>Cell resp</dc:title>
</cp:coreProperties>
</file>